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9.wmf" ContentType="image/x-wmf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8.wmf" ContentType="image/x-wmf"/>
  <Override PartName="/ppt/media/image26.wmf" ContentType="image/x-wmf"/>
  <Override PartName="/ppt/media/image15.png" ContentType="image/png"/>
  <Override PartName="/ppt/media/image24.wmf" ContentType="image/x-wmf"/>
  <Override PartName="/ppt/media/image23.wmf" ContentType="image/x-wmf"/>
  <Override PartName="/ppt/media/image22.png" ContentType="image/png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16.png" ContentType="image/png"/>
  <Override PartName="/ppt/media/image2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7F7F-9094-44CE-AE8F-C210E1589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5413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97A9-5B15-447B-BBED-9354DB8F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9144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5413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35413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134A-EEEB-451E-AE79-88F628644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920" y="9144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240" y="9144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5413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920" y="35413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240" y="35413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1746-43F1-4245-A988-4D7E168E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C12D-A609-4FC2-AA40-B65614BD3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9144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F25D-A879-4A17-8016-C0A6167E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7962-961D-4A5D-AD72-5CAB2672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760" y="9144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A0AC-A264-4A63-BE02-70C08252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5DC7-E18A-4BC6-B599-5B8A0246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6967-452E-4527-B296-176EE0A4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760" y="9144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5413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1340-1543-4D28-AFFD-2AD8A9E6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9144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1A3C-3FDD-44BA-998D-49AC639C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760" y="9144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0760" y="35413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5B80-D1CF-4F4C-B51A-46A4DC6F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760" y="9144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5413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B7A4-3269-4F35-83E5-FDB51608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5413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B3EA-20E2-4388-82F6-B7FAFA3C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760" y="9144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5413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0760" y="35413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00EF-B033-430B-BABA-B12F06014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39920" y="9144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1240" y="9144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5413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39920" y="35413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1240" y="35413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9FD0-0B29-4817-9C86-B6D7620C9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0826-F9F7-43E1-9498-412C81B4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9144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9176-D636-429E-BA5E-058D385C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A90A-A1B3-4FEC-9612-CDE993D9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0474-E426-4185-8EB0-8DCBA1C2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9144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5413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D982-846F-481B-BEE2-799A7C4E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9144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35413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C195-7AEA-4DA2-A857-14121453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9144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5413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1639-6F61-4031-8904-A11DE30C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9144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A79F-178B-4BDA-B2A3-C176A9083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1742-65C8-45CA-9DA2-6AE7EB130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33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33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33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20" y="2514600"/>
            <a:ext cx="9067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Analyzing and Recognizing Walking Figures in XY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66880" y="38098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Avinash Ravichandra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ait Mod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09800" y="914400"/>
            <a:ext cx="4228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odel has 5 Parame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x and v are obtained from the head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A ,p ,T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braided pattern is detected using a correlation of the Model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model is varied over a small search space of A, p and 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f all models result in low correlation, a gait is not detected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4621320" cy="5029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800600" y="4495680"/>
            <a:ext cx="390852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dy Track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ody tracking is done using SNAK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itial estimates are acquired from the model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4 SNAKES are used to model the edges of the gait using 2 cost function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=guassian(x)*derivative(x)*O(x,t), E, -E are used as the energy function, this causes it to converge at different edge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contour from one XT slice is used to initialize the next slice. Getting faster convergence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eyond the hip only 2 sets of contours are required, enabling faster comput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438280" y="3048120"/>
            <a:ext cx="390852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cked Bo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514600" y="1371600"/>
            <a:ext cx="3876840" cy="18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ait Mod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24280" y="1752480"/>
            <a:ext cx="0" cy="990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190760" y="2743200"/>
            <a:ext cx="533160" cy="6858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2743200"/>
            <a:ext cx="533520" cy="6858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028840" y="3429000"/>
            <a:ext cx="228600" cy="8380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038480" y="3429000"/>
            <a:ext cx="152640" cy="8380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800600" y="2743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800600" y="1752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10080" y="3429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81480" y="4267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3429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4267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97800" y="32004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e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400160" y="32004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e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52000" y="40528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k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62000" y="40528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k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90680" y="259092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90680" y="152388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57880" y="1143000"/>
            <a:ext cx="53316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92560" y="34290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A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25720" y="34290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A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91120" y="2514600"/>
            <a:ext cx="41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A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52880" y="2362320"/>
            <a:ext cx="41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A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21640" y="5294160"/>
            <a:ext cx="26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1,A2- Lower Leg 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3,A4- Upper Leg 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ait Mod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rom the 4 contours, 2 averages are made which represent the skeleton for the left and the righ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 linear fit of a skeleton model is made to obtain the skeleton from the contour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o do this, locations of the critical points on the skeleton must be known such as hip, knee, ankle and head.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nce there are second order discontinuities at these points, SNAKES is again used to determine the recover these heights to apply it to the skeletal mod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80880" y="4114800"/>
            <a:ext cx="3843360" cy="17683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770360" y="4114800"/>
            <a:ext cx="390852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ait Recogn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nce the skeleton is fit to every frame, 4 angles are obtain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066680" y="1371600"/>
            <a:ext cx="3005280" cy="46483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003640" y="1447920"/>
            <a:ext cx="2921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ait Recogn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ixed length vectors are created by using the time duration as one period of any one of the lower leg zero crossing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e vectors from the test data set is then classified using the vectors from the learning dataset using K-NN with Euclidean distan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etails about what feature vector they use are a little unclea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aimed recognition of 79%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 what if there are multiple people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41200" y="914400"/>
            <a:ext cx="4203720" cy="5029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610160" y="993600"/>
            <a:ext cx="4228920" cy="22798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4950000" y="3505320"/>
            <a:ext cx="3547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covering Parame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initial and final position of the person and the velocity of the person are determine by collapsing the XT slices into one XT slice and using hough transform , determine the candidate lin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height of the person is determine by slicing the spatio-temporal volume along the determined line and y of the head and the toe are determin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o determine the Time  period and Phase, the lower half of the periodic slice is taken and an autocorrelation sequence is buil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ing Fourier analysis the frequency is obtained. If there is no significant peak there is no gait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590920" y="4419720"/>
            <a:ext cx="3743280" cy="44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nonical Wal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87440" y="914400"/>
            <a:ext cx="3709800" cy="2438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610160" y="1870200"/>
            <a:ext cx="4228920" cy="52524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228600" y="4114800"/>
            <a:ext cx="4571640" cy="1566720"/>
            <a:chOff x="228600" y="4114800"/>
            <a:chExt cx="4571640" cy="1566720"/>
          </a:xfrm>
        </p:grpSpPr>
        <p:pic>
          <p:nvPicPr>
            <p:cNvPr id="163" name="" descr=""/>
            <p:cNvPicPr/>
            <p:nvPr/>
          </p:nvPicPr>
          <p:blipFill>
            <a:blip r:embed="rId4"/>
            <a:stretch/>
          </p:blipFill>
          <p:spPr>
            <a:xfrm>
              <a:off x="228600" y="4114800"/>
              <a:ext cx="457164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flipV="1">
              <a:off x="2164320" y="4562280"/>
              <a:ext cx="0" cy="58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3647160" y="4562280"/>
              <a:ext cx="0" cy="58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49560" y="5161320"/>
              <a:ext cx="19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nonical Wal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caled and Transla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01840" y="5149080"/>
              <a:ext cx="126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splacement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4610160" y="3753000"/>
            <a:ext cx="42289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del Based Metho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2-D Model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ick Figur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2-D Ribb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2-D Contou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601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3-D Model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lliptical Cones / Cylinders / Spher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cking only using m(u,v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22360" y="2041560"/>
            <a:ext cx="802332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cking using m(u,v) and x(u,v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06520" y="2181240"/>
            <a:ext cx="805500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 this paper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teresting use of modeling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Method works directly with video sequences, rather than other things such a silhouettes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2514600" cy="2011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962520" y="1219320"/>
            <a:ext cx="42670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ecognize walking people from a video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y identify the person from the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3581280"/>
            <a:ext cx="327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o-parallel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c cam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14800" y="3733920"/>
            <a:ext cx="327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tio-Temporal Volu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AK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X-T Slice of  Spatio-Temporal Volu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295280" y="1143000"/>
            <a:ext cx="1714680" cy="1371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2680" y="17524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059440" y="914400"/>
            <a:ext cx="3703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360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4400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X-T Slice of  Spatio-Temporal Volu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90720" y="1295280"/>
            <a:ext cx="1714320" cy="1371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648320" y="914400"/>
            <a:ext cx="3703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680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440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X-T Slice of  Spatio-Temporal Volu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028880" y="1219320"/>
            <a:ext cx="1714320" cy="1371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602240" y="838080"/>
            <a:ext cx="3703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68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440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all Sche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28600" y="2001960"/>
            <a:ext cx="861048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ait Det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29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ackground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tatic Camera - vertical stripes 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Moving camera –lin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nvert the Spatio-Temporal Volume into a change detected volum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Calculate Background image using median filtering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Remove the background from the volume to get the change detected volum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rom the Change detected Volum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Locate the head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Look for the pattern below the head to see if a gait exist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099040" y="914400"/>
            <a:ext cx="1835280" cy="1376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952880" y="2895480"/>
            <a:ext cx="2908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13:34:15Z</dcterms:created>
  <dc:creator>avinash</dc:creator>
  <dc:description/>
  <dc:language>en-US</dc:language>
  <cp:lastModifiedBy>Avinash</cp:lastModifiedBy>
  <dcterms:modified xsi:type="dcterms:W3CDTF">2006-07-13T17:02:00Z</dcterms:modified>
  <cp:revision>136</cp:revision>
  <dc:subject/>
  <dc:title>Sample Presentation</dc:title>
</cp:coreProperties>
</file>